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7351-D9D1-45DA-AECE-3A411A6A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1B49-DBE2-451D-A174-F4F6DA71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98A8-02D0-4C80-955C-760E2297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B8E2-A054-41AA-998C-76648386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207-518F-44FE-9AFD-F3D801D5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4E8D-F77E-4726-B3D7-89C6431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CDB3-2AA7-4FBD-B3E7-009547A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1EED-3047-4C32-ACF5-3FA94E3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4DE-88C3-4963-9EFF-04D4FDB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EAF-1592-4969-922E-A36C05A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E202-7B24-4618-8EA0-F4A06BF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CBAB-DE15-4CBF-A41C-980F0A79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053F-D897-40D0-B65C-B18C42E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0BE-1E97-4F03-9771-235AEA7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6067-C0E9-4A44-A2AB-4B397B5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E57B-9F92-4425-B108-05A9AB84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082C-5B05-4132-B144-4D6C6C41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EAE8-F2E1-4347-A289-B9B60833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ABE1-8A82-4F9B-94B0-5BCA479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CDF1-CB8E-4A83-9C8B-F43A94F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BDA1-A1A3-4AE1-80F3-FAD53C7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CAB3-8083-411C-A9D5-CBADCB8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7F9E-4C1E-4DEF-B196-989F725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8EBD-CEF9-4A6D-8B39-72D9740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E55F-4ED0-4551-A0B3-17BA35292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B17-3851-49DE-86FB-91D507289B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16360" y="692280"/>
            <a:ext cx="586728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comic"/>
              </a:rPr>
              <a:t>A Trashed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429264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Tot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00"/>
                </a:solidFill>
                <a:latin typeface="Castellar"/>
              </a:rPr>
              <a:t>Really Trash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pperplate Gothic Bold"/>
              </a:rPr>
              <a:t>Why Oh Why do they do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5:04:23Z</dcterms:created>
  <dc:creator>John Wilson</dc:creator>
  <dc:description/>
  <dc:language>en-US</dc:language>
  <cp:lastModifiedBy>John Wilson</cp:lastModifiedBy>
  <dcterms:modified xsi:type="dcterms:W3CDTF">2007-02-28T15:18:17Z</dcterms:modified>
  <cp:revision>2</cp:revision>
  <dc:subject/>
  <dc:title>A Trashed Slide</dc:title>
</cp:coreProperties>
</file>